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1382-E19C-4561-86F8-B25289BCA528}" type="slidenum"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B2D1-CF71-4991-853B-851E957E5148}" type="slidenum">
              <a:rPr b="0" lang="sr-CS" sz="1200" spc="-1" strike="noStrike">
                <a:solidFill>
                  <a:srgbClr val="003d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256C-49DD-45F8-A4E3-405DA9BEDEA9}" type="slidenum">
              <a:rPr b="0" lang="sr-CS" sz="1200" spc="-1" strike="noStrike">
                <a:solidFill>
                  <a:srgbClr val="003d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8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1" name="Group 59"/>
          <p:cNvGrpSpPr/>
          <p:nvPr/>
        </p:nvGrpSpPr>
        <p:grpSpPr>
          <a:xfrm>
            <a:off x="414360" y="1415880"/>
            <a:ext cx="1784160" cy="2324160"/>
            <a:chOff x="414360" y="1415880"/>
            <a:chExt cx="1784160" cy="2324160"/>
          </a:xfrm>
        </p:grpSpPr>
        <p:sp>
          <p:nvSpPr>
            <p:cNvPr id="2" name="Line 60"/>
            <p:cNvSpPr/>
            <p:nvPr/>
          </p:nvSpPr>
          <p:spPr>
            <a:xfrm flipH="1">
              <a:off x="414360" y="1513440"/>
              <a:ext cx="178416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3" name="Line 61"/>
            <p:cNvSpPr/>
            <p:nvPr/>
          </p:nvSpPr>
          <p:spPr>
            <a:xfrm>
              <a:off x="608400" y="1419120"/>
              <a:ext cx="0" cy="23209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" name="Arc 62"/>
            <p:cNvSpPr/>
            <p:nvPr/>
          </p:nvSpPr>
          <p:spPr>
            <a:xfrm flipH="1">
              <a:off x="511920" y="1415880"/>
              <a:ext cx="192960" cy="19296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7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44" name="Group 58"/>
          <p:cNvGrpSpPr/>
          <p:nvPr/>
        </p:nvGrpSpPr>
        <p:grpSpPr>
          <a:xfrm>
            <a:off x="4680" y="887400"/>
            <a:ext cx="6654960" cy="2851200"/>
            <a:chOff x="4680" y="887400"/>
            <a:chExt cx="6654960" cy="2851200"/>
          </a:xfrm>
        </p:grpSpPr>
        <p:sp>
          <p:nvSpPr>
            <p:cNvPr id="45" name="Line 59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6" name="Line 60"/>
            <p:cNvSpPr/>
            <p:nvPr/>
          </p:nvSpPr>
          <p:spPr>
            <a:xfrm flipH="1" flipV="1">
              <a:off x="4680" y="3053880"/>
              <a:ext cx="509760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7" name="Line 61"/>
            <p:cNvSpPr/>
            <p:nvPr/>
          </p:nvSpPr>
          <p:spPr>
            <a:xfrm flipH="1" flipV="1">
              <a:off x="609480" y="1488600"/>
              <a:ext cx="605016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8" name="Arc 62"/>
            <p:cNvSpPr/>
            <p:nvPr/>
          </p:nvSpPr>
          <p:spPr>
            <a:xfrm flipH="1" rot="16200000">
              <a:off x="675360" y="136620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grpSp>
        <p:nvGrpSpPr>
          <p:cNvPr id="49" name="Group 63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0" name="Line 64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1" name="Line 65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2" name="Arc 66"/>
            <p:cNvSpPr/>
            <p:nvPr/>
          </p:nvSpPr>
          <p:spPr>
            <a:xfrm rot="5400000">
              <a:off x="8090640" y="531252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НАСТАВНА ЈЕДИНИЦ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: </a:t>
            </a:r>
            <a:br>
              <a:rPr sz="2400"/>
            </a:br>
            <a:r>
              <a:rPr b="1" lang="sr-RS" sz="4000" spc="-1" strike="noStrike">
                <a:solidFill>
                  <a:srgbClr val="003d62"/>
                </a:solidFill>
                <a:latin typeface="Calibri"/>
              </a:rPr>
              <a:t>Дистрибуција лекова </a:t>
            </a:r>
            <a:r>
              <a:rPr b="1" lang="sr-RS" sz="40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11036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ИНТЕГРИСАНЕ АКАДЕМСКЕ СТУДИЈЕ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ФАРМ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Предмет: Фармакокинетик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6699"/>
                </a:solidFill>
                <a:latin typeface="Calibri"/>
              </a:rPr>
              <a:t>Проф. др Драган Миловановић</a:t>
            </a:r>
            <a:endParaRPr b="0" lang="en-US" sz="18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99"/>
                </a:solidFill>
                <a:latin typeface="Calibri"/>
              </a:rPr>
              <a:t>Проф. др Наташа Ђорђевић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1. Особине лека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 -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последице везивања за протеине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овећава се привидна растворљивост лека у плазм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мањује се екскреција и метаболизам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Везана фракција чини депо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мањена дистрибуција лека у друге компартман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актори интеракције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хипоалбуминемија, уремија, старост, компетиција се ендогеним супстанцама и другим лекови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Интеракција на месту везивања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јчешће интеракција на нивоу клиренс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 средин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K</a:t>
            </a:r>
            <a:r>
              <a:rPr b="0" lang="en-US" sz="1900" spc="-1" strike="noStrike" baseline="-25000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1900" spc="-1" strike="noStrike" baseline="-25000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а ј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при којој је 50% лека јонизовано а 50% н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ећој од њихов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K</a:t>
            </a:r>
            <a:r>
              <a:rPr b="0" lang="en-US" sz="1900" spc="-1" strike="noStrike" baseline="-25000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, слабе базе су мање а слабе киселине више јонизован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мањој од њихов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K</a:t>
            </a:r>
            <a:r>
              <a:rPr b="0" lang="en-US" sz="1900" spc="-1" strike="noStrike" baseline="-25000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, слабе киселине су мање а слабе базе више јонизоване. 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d62"/>
                </a:solidFill>
                <a:latin typeface="Calibri"/>
              </a:rPr>
              <a:t>цереброспинална течност (ликвор): 7,35; плацента; 7,3  - у њима се концентришу слабе базе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окрвљенос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боља прокрвљеност ткива олакшава дистрибуцију – лекови се брже дистрибуирају у боље прокрвљена ткива (нпр. срце и бубреге) него у мање прокрвљена (нпр. кожу и масно ткиво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d62"/>
                </a:solidFill>
                <a:latin typeface="Calibri"/>
              </a:rPr>
              <a:t>мозак, плућа, срце, јетра, бубрези &gt; мишићи &gt;масно ткиво &gt;кости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Количина масног ткив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креће се од 10% код мршавих до 50% код гојазних људ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липосолубилни лекови се у масном ткиву нагомилавај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стабилни депо лека због малог протока крв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Хемато-енцефална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ови морају да прођу кроз ћелије, јер не могу између (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tight junctions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); у значајној мери могу је проћи само: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ипофилни или јако мали молекули – пасивном дифузијом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стероидни хормони и етанол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имају афинитет за инфлукс транспортере на баријери – олакшаном дифузијом или активним транспортом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Л-ДОПА и опиоиди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а баријери се у највећој мери налазе ефлукс транспортери који отежавају улазак лекова у ћелије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ретко пиноцитозом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нфламација повећава пропусност и омогућава улазак осталих леков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примена пеницилина код менингитиса и енцефалитис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Хемато-ликворна баријер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је пролазе нешто лакше у односу на хемато-енцефалну баријеру, али ипак теже него остале мембран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акође експримира транспортере (инфлукс и ефлукс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Хемато-тестикуларна баријер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астоји се од тесно повезаних Сертолијевих ћелија и има за циљ да заштити герминативне ћелије (нарочито сперматиде) од ксенобиоти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ипосолубилни лекови пролазе лако, док велики хидрофилни молекули и лекови са великим афинитетом за протеине плазме пролазе значајно слаб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акође експримира транспортере (инфлукс и ефлукс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ткивне специфичности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ост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етрациклински и други молекули који хелирају двовалентне катјоне, тешки метали се акумулирају у кост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дсорпција на површину минерал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нкорпорација унутар кристалне структуре минерал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Резервоар токсичних агенаса нпр. олово, радију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штећење крвних судова костне сржи смањује проток крви кроз кос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аља акумулација аген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ерапијска корист у лечењу остеопороз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лацентална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коро сви лекови је пролазе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е пролазе само молекули већи од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1000 Da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, нпр хепарин, инсулин, протам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ајбоље пролазе липосолубилни, нејонизовани и лекови који се слабо везују за протеине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ки лекови се у ткиву фетуса нагомилавај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слабе базе (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“</a:t>
            </a:r>
            <a:r>
              <a:rPr b="0" i="1" lang="en-US" sz="1900" spc="-1" strike="noStrike">
                <a:solidFill>
                  <a:srgbClr val="003d62"/>
                </a:solidFill>
                <a:latin typeface="Calibri"/>
              </a:rPr>
              <a:t>ion trapping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’’) - због ниж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крви фетуса (7,3) у односу на крв мајке (7,44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ови који се везују за протеине фетус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ови који имају афинитет за инфлукс транспортере на плаценталној баријери – нпр. гентамиц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а плаценталној баријери налазе се и ефлукс транспортер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gp, MRP, BCRP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лацентална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ипови дистрибуције лекова: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комплетна – лекови се брзо дистрибуирају кроз плаценту и изједначавају концентрације у крви фетуса и крви мајк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тиопентал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ојачана – лекови постижу веће концентрације у крви фетуса него у крви мајк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кетамин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екомплетна – лекови слабо пролазе плаценту и концентрација у крви фетуса остаје нижа него у крви мајк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сукцинилхолин (високо јонизован)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еханизми дистрибуције лекова: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ифузија - нпр. мидазолам и парацетамол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лакшана дифузија - нпр. цефалоспорини и гликокортикоид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активни транспорт - нпр. норадреналин и допам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транспорт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Транспортери су мембрански протеини који регулишу промет супстанци кроз ћелијску мембрану.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До данас је откривено око 350 различитих транспортера, који се према својој функцији могу поделити у две основне групе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ABC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3d62"/>
                </a:solidFill>
                <a:latin typeface="Calibri"/>
              </a:rPr>
              <a:t>ATP-binding cassette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 transporters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) активно испумпавају супстанце из ћелија, користећи енергију ослобођену хидролизом аденозин-трифосфата (ATP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најбоље изучен ј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ABCB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1, познатији као П-гликопротеин (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P</a:t>
            </a:r>
            <a:r>
              <a:rPr b="0" i="1" lang="sr-CS" sz="2000" spc="-1" strike="noStrike">
                <a:solidFill>
                  <a:srgbClr val="003d62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gp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) или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MDR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1 (</a:t>
            </a:r>
            <a:r>
              <a:rPr b="0" i="1" lang="sr-CS" sz="2000" spc="-1" strike="noStrike">
                <a:solidFill>
                  <a:srgbClr val="003d62"/>
                </a:solidFill>
                <a:latin typeface="Calibri"/>
              </a:rPr>
              <a:t>multidrug-resistance 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protein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SLC 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solute carriers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регулишу процес преноса супстанци у и из ћелије олакшаним или активним транспорт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3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</a:t>
            </a: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Присуство других лекова</a:t>
            </a:r>
            <a:br>
              <a:rPr sz="34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и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нтеракције на нивоу дистрибуције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отеини плазме, нарочито албумини - компетиција за место везива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имери интеракције: фуросемид и варфарин, дигоксин и еритромицин, сулфонамиди и билирубин код деце млађе од 2 месец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-гликопротеин - индукција/инхибициј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Супстрати: калцијумски блокатори, инхибитори ХИВ протеаза, имуносупресиви, хиполипемици, опиоиди, бета блокатори, цитостатици, антибиотици..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Индуктори: рифампицин, кантарион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Инхибитори: међу макролидима, имидазолима, калцијумским блокатори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имер интеракције: кантарион и метадо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олумен дистрибуције је виртуелна величина 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“apparent volume of distribution”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) која предвиђа у којој мери се лек дистрибуира у организму – представља запремину коју би лек у примењеној дози испунио тако да у свим њеним деловима постигне концентрацију исту као она која је измерена у крви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зражава се у литрима или литрима по килограму телесне масе.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олумен дистрибуције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се израчунати на основу примењене дозе и постигнуте концентрације у крви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l)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= D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mg)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/ C</a:t>
            </a:r>
            <a:r>
              <a:rPr b="1" lang="en-US" sz="2200" spc="-1" strike="noStrike" baseline="-25000">
                <a:solidFill>
                  <a:srgbClr val="003d62"/>
                </a:solidFill>
                <a:latin typeface="Calibri"/>
              </a:rPr>
              <a:t>0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mg/l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ако се концентрација лека у крви након примене брзо смањује, за процену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лек се примењује интравенски, а концентрација мери непосредно након примене лека, тј пре него што је дистрибуција, метаболизам и елиминација значајно смање.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32000" y="4437000"/>
            <a:ext cx="3240360" cy="50472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Основни појмови и принципи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Дефиниција: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sr-CS" sz="2200" spc="-1" strike="noStrike">
                <a:solidFill>
                  <a:srgbClr val="006699"/>
                </a:solidFill>
                <a:latin typeface="Calibri"/>
              </a:rPr>
              <a:t>Дистрибуција је процес преласка лека од системског крвотока до осталих ткива</a:t>
            </a:r>
            <a:r>
              <a:rPr b="0" lang="sr-CS" sz="2200" spc="-1" strike="noStrike">
                <a:solidFill>
                  <a:srgbClr val="006699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Механизми проласка лека кроз мембране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дифузија (пасивна или олакшана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активни транспор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иноцитоз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Може се описати кроз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Брзин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едставља брзину којом се лек дистрибуира у остала ткив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бим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едставља укупну количину лека која се дистрибуира у остала ткива 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2916360" y="3284640"/>
            <a:ext cx="37432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Главна детерминанта волумена дистрибуције је количник фракције лека која је слободна у плазми и фракције лека која је слободна у ткивим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Calibri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d</a:t>
            </a: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 = V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p</a:t>
            </a: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 + fu/fu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 + V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3d62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 –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волумен дистрибу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p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запремина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Fu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фракција слободног лека у плазм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fu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фракција слободног лека у ткиви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запремина ткив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ецизније израчунавање укључује понављано мерење концентрације лека у крви током неколико сати, и процену иницијалне концентрације лека у крви на основу добијеног графикона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=D/C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 rot="16200000">
            <a:off x="1356480" y="4437720"/>
            <a:ext cx="32814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240" bIns="39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sr-CS" sz="2000" spc="-1" strike="noStrike">
                <a:solidFill>
                  <a:srgbClr val="0033cc"/>
                </a:solidFill>
                <a:latin typeface="Arial"/>
              </a:rPr>
              <a:t>Концентрација лека у плазми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og scale, mg/l)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571920" y="6381720"/>
            <a:ext cx="49608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240" bIns="39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Arial"/>
              </a:rPr>
              <a:t>Време (</a:t>
            </a:r>
            <a:r>
              <a:rPr b="0" lang="en-US" sz="2000" spc="-1" strike="noStrike">
                <a:solidFill>
                  <a:srgbClr val="003d62"/>
                </a:solidFill>
                <a:latin typeface="Arial"/>
              </a:rPr>
              <a:t>h</a:t>
            </a:r>
            <a:r>
              <a:rPr b="0" lang="sr-CS" sz="2000" spc="-1" strike="noStrike">
                <a:solidFill>
                  <a:srgbClr val="003d6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540240" y="3068640"/>
            <a:ext cx="0" cy="331308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76520" y="587232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476520" y="532764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476520" y="478152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3476520" y="424656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3476520" y="370044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76520" y="315612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3540240" y="6418440"/>
            <a:ext cx="500364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465624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3" name="Line 15"/>
          <p:cNvSpPr/>
          <p:nvPr/>
        </p:nvSpPr>
        <p:spPr>
          <a:xfrm flipV="1">
            <a:off x="577224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4" name="Line 16"/>
          <p:cNvSpPr/>
          <p:nvPr/>
        </p:nvSpPr>
        <p:spPr>
          <a:xfrm flipV="1">
            <a:off x="687852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801036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3402000" y="6381720"/>
            <a:ext cx="14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3d62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7" name="Straight Connector 26"/>
          <p:cNvSpPr/>
          <p:nvPr/>
        </p:nvSpPr>
        <p:spPr>
          <a:xfrm>
            <a:off x="4284720" y="4653000"/>
            <a:ext cx="3887640" cy="151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8" name="Arc 29"/>
          <p:cNvSpPr/>
          <p:nvPr/>
        </p:nvSpPr>
        <p:spPr>
          <a:xfrm rot="12088200">
            <a:off x="3492360" y="3852720"/>
            <a:ext cx="2089440" cy="865440"/>
          </a:xfrm>
          <a:custGeom>
            <a:avLst/>
            <a:gdLst/>
            <a:ahLst/>
            <a:rect l="l" t="t" r="r" b="b"/>
            <a:pathLst>
              <a:path stroke="0" w="2088232" h="864096">
                <a:moveTo>
                  <a:pt x="1044116" y="0"/>
                </a:moveTo>
                <a:cubicBezTo>
                  <a:pt x="1620765" y="0"/>
                  <a:pt x="2088232" y="193434"/>
                  <a:pt x="2088232" y="432048"/>
                </a:cubicBezTo>
                <a:lnTo>
                  <a:pt x="1044116" y="432048"/>
                </a:lnTo>
                <a:lnTo>
                  <a:pt x="1044116" y="0"/>
                </a:lnTo>
                <a:close/>
              </a:path>
              <a:path fill="none" w="2088232" h="864096">
                <a:moveTo>
                  <a:pt x="1044116" y="0"/>
                </a:moveTo>
                <a:cubicBezTo>
                  <a:pt x="1620765" y="0"/>
                  <a:pt x="2088232" y="193434"/>
                  <a:pt x="2088232" y="432048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9" name="Straight Connector 30"/>
          <p:cNvSpPr/>
          <p:nvPr/>
        </p:nvSpPr>
        <p:spPr>
          <a:xfrm>
            <a:off x="3541680" y="4352760"/>
            <a:ext cx="711360" cy="2797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60" name="Oval 32"/>
          <p:cNvSpPr/>
          <p:nvPr/>
        </p:nvSpPr>
        <p:spPr>
          <a:xfrm>
            <a:off x="3467160" y="428292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61" name="Straight Arrow Connector 34"/>
          <p:cNvCxnSpPr/>
          <p:nvPr/>
        </p:nvCxnSpPr>
        <p:spPr>
          <a:xfrm flipH="1">
            <a:off x="3780000" y="3933720"/>
            <a:ext cx="576360" cy="288000"/>
          </a:xfrm>
          <a:prstGeom prst="straightConnector1">
            <a:avLst/>
          </a:prstGeom>
          <a:ln w="12600">
            <a:solidFill>
              <a:srgbClr val="111519"/>
            </a:solidFill>
            <a:miter/>
            <a:tailEnd len="med" type="arrow" w="med"/>
          </a:ln>
        </p:spPr>
      </p:cxnSp>
      <p:sp>
        <p:nvSpPr>
          <p:cNvPr id="162" name="TextBox 35"/>
          <p:cNvSpPr/>
          <p:nvPr/>
        </p:nvSpPr>
        <p:spPr>
          <a:xfrm>
            <a:off x="4500720" y="36450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63" name="Rectangle 36"/>
          <p:cNvSpPr/>
          <p:nvPr/>
        </p:nvSpPr>
        <p:spPr>
          <a:xfrm>
            <a:off x="971640" y="3573360"/>
            <a:ext cx="1368360" cy="50328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се дистрибуирају по целом организму имају Vd≈40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одговара укупној количини воде у организму особе масе око 70kg (укупна количина воде у телу је око 60% телесне масе)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не напуштају интраваскуларни простор имају Vd≈5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одговара укупној количини плазме у организму особе масе око 70kg (око 4% укупне телесне вод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се дистрибуирају само екстрацелуларном простору, а не улазе у ћелије, имају Vd≈15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одговара укупној количини екстрацелуларне течности у организму особе масе око 70kg (око 25% укупне телесне вод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се у неким ткивима нагомилавају, тј постижу концентрацију већу од оне измерене у крви, имају Vd&gt;40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0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Волумен дистрибуције у равнотежном стању (</a:t>
            </a:r>
            <a:r>
              <a:rPr b="0" lang="en-US" sz="30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Calibri"/>
              </a:rPr>
              <a:t>ss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Равнотежно стање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‘’</a:t>
            </a:r>
            <a:r>
              <a:rPr b="0" i="1" lang="en-US" sz="2400" spc="-1" strike="noStrike">
                <a:solidFill>
                  <a:srgbClr val="003d62"/>
                </a:solidFill>
                <a:latin typeface="Calibri"/>
              </a:rPr>
              <a:t>steady state</a:t>
            </a:r>
            <a:r>
              <a:rPr b="0" i="1" lang="sr-RS" sz="2400" spc="-1" strike="noStrike">
                <a:solidFill>
                  <a:srgbClr val="003d62"/>
                </a:solidFill>
                <a:latin typeface="Calibri"/>
              </a:rPr>
              <a:t>’’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и примени једне дозе лека је тренутак у коме је дистрибуција комплетирана, па је нето проток лека из једног дела организма у други једнак нули.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У равнотежном стању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Calibri"/>
              </a:rPr>
              <a:t>ss</a:t>
            </a:r>
            <a:r>
              <a:rPr b="0" lang="sr-RS" sz="2400" spc="-1" strike="noStrike" baseline="-25000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е израчунава ка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(l) = 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A(t)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(mg) / 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C(t)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(mg/l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A(t)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представља количину лека у организму у тренутку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(t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онцентрацију лека у плазми у тренутку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4005360"/>
            <a:ext cx="4103640" cy="50328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0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0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sr-RS" sz="2400" spc="-1" strike="noStrike" baseline="-25000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е може искористити за израчунавање ударне дозе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LD, “</a:t>
            </a:r>
            <a:r>
              <a:rPr b="0" i="1" lang="en-US" sz="2400" spc="-1" strike="noStrike">
                <a:solidFill>
                  <a:srgbClr val="003d62"/>
                </a:solidFill>
                <a:latin typeface="Calibri"/>
              </a:rPr>
              <a:t>loading dose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”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LD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) =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[C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/l)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x Vd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l)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] / F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 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едставља жељену концентрацију лека у крви,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 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волумен дистрибуције (најбоље у равнотежном стању), 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 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биорасположивост лек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i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= 1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Израчунавање ударне дозе користи се када је потребно брзо постићи одређену концентрацију лека у крв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пр. код примене антиепилептика за заустављање напада или аспирина код инфаркта миокард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411280" y="2685960"/>
            <a:ext cx="4321440" cy="50508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Невезана (слободна) фракција 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евезана тј слободна фракција лека одређује концентрацију лека у близини рецептора, а тиме и ефикасност; везана фракција је ‘’резервоар’’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Невезана и везана фракција лека су у равнотеж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Слободна фракција лека у плазми израчунава се ка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Fp = Cf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/l)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/ Ct</a:t>
            </a:r>
            <a:r>
              <a:rPr b="1" lang="sr-R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/l)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f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онцентрација слободног лека у крви, а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Ct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укупна концентрација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987640" y="4076640"/>
            <a:ext cx="3529080" cy="50472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Модели дистрибуције леко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Терминологија: простор - компартман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Једнопросторни модел организм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Двопросторни модел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централни простор (добро прокрвљени)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периферни простор (слабије и лоше прокрвљени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Вишепросторни модели (дво-, тро-, мулти-)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Секвестрација за ткива, крвне ћелије и др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Ткивна акумула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афинитет за специфичне молекуке нпр. кератин (гризеофулвин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специјализовани транспортни системи нпр. јод у тироиде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Једнопросторни модел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635280" y="2637000"/>
            <a:ext cx="1873440" cy="172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79" name="Straight Arrow Connector 6"/>
          <p:cNvCxnSpPr>
            <a:endCxn id="178" idx="1"/>
          </p:cNvCxnSpPr>
          <p:nvPr/>
        </p:nvCxnSpPr>
        <p:spPr>
          <a:xfrm>
            <a:off x="1692000" y="3499920"/>
            <a:ext cx="1943640" cy="108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cxnSp>
        <p:nvCxnSpPr>
          <p:cNvPr id="180" name="Straight Arrow Connector 7"/>
          <p:cNvCxnSpPr/>
          <p:nvPr/>
        </p:nvCxnSpPr>
        <p:spPr>
          <a:xfrm>
            <a:off x="5508360" y="3499920"/>
            <a:ext cx="1943640" cy="108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sp>
        <p:nvSpPr>
          <p:cNvPr id="181" name="TextBox 8"/>
          <p:cNvSpPr/>
          <p:nvPr/>
        </p:nvSpPr>
        <p:spPr>
          <a:xfrm>
            <a:off x="3096720" y="4924440"/>
            <a:ext cx="29822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C = D/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  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 = D/C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Cp</a:t>
            </a:r>
            <a:r>
              <a:rPr b="0" lang="sr-Latn-CS" sz="2800" spc="-1" strike="noStrike" baseline="-25000">
                <a:solidFill>
                  <a:srgbClr val="006699"/>
                </a:solidFill>
                <a:latin typeface="Calibri"/>
              </a:rPr>
              <a:t>(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= </a:t>
            </a:r>
            <a:r>
              <a:rPr b="0" lang="sr-Latn-RS" sz="2800" spc="-1" strike="noStrike">
                <a:solidFill>
                  <a:srgbClr val="006699"/>
                </a:solidFill>
                <a:latin typeface="Calibri"/>
              </a:rPr>
              <a:t>C</a:t>
            </a:r>
            <a:r>
              <a:rPr b="0" lang="sr-Latn-RS" sz="2800" spc="-1" strike="noStrike" baseline="-25000">
                <a:solidFill>
                  <a:srgbClr val="006699"/>
                </a:solidFill>
                <a:latin typeface="Calibri"/>
              </a:rPr>
              <a:t>(0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RS" sz="2800" spc="-1" strike="noStrike" baseline="30000">
                <a:solidFill>
                  <a:srgbClr val="006699"/>
                </a:solidFill>
                <a:latin typeface="Calibri"/>
              </a:rPr>
              <a:t>k</a:t>
            </a:r>
            <a:r>
              <a:rPr b="0" lang="sr-Latn-RS" sz="1800" spc="-1" strike="noStrike" baseline="30000">
                <a:solidFill>
                  <a:srgbClr val="006699"/>
                </a:solidFill>
                <a:latin typeface="Calibri"/>
              </a:rPr>
              <a:t>e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alibri"/>
              </a:rPr>
              <a:t>*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t)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4319640" y="321300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1810080" y="37512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Апсорп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5805360" y="37512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Елимина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192720" y="2778120"/>
            <a:ext cx="8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2244600" y="279072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Двопросторни модел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103640" y="3651120"/>
            <a:ext cx="1116000" cy="10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89" name="Straight Arrow Connector 6"/>
          <p:cNvCxnSpPr>
            <a:endCxn id="188" idx="1"/>
          </p:cNvCxnSpPr>
          <p:nvPr/>
        </p:nvCxnSpPr>
        <p:spPr>
          <a:xfrm flipV="1">
            <a:off x="2123640" y="4150800"/>
            <a:ext cx="1980360" cy="720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cxnSp>
        <p:nvCxnSpPr>
          <p:cNvPr id="190" name="Straight Arrow Connector 7"/>
          <p:cNvCxnSpPr/>
          <p:nvPr/>
        </p:nvCxnSpPr>
        <p:spPr>
          <a:xfrm>
            <a:off x="5219640" y="4157280"/>
            <a:ext cx="1945440" cy="108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sp>
        <p:nvSpPr>
          <p:cNvPr id="191" name="TextBox 8"/>
          <p:cNvSpPr/>
          <p:nvPr/>
        </p:nvSpPr>
        <p:spPr>
          <a:xfrm>
            <a:off x="2580120" y="5445000"/>
            <a:ext cx="3813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Vss = Vc + Vp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Cp</a:t>
            </a:r>
            <a:r>
              <a:rPr b="0" lang="sr-Latn-CS" sz="2800" spc="-1" strike="noStrike" baseline="-25000">
                <a:solidFill>
                  <a:srgbClr val="006699"/>
                </a:solidFill>
                <a:latin typeface="Calibri"/>
              </a:rPr>
              <a:t>(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= A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+ B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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392720" y="3822840"/>
            <a:ext cx="57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2241720" y="440676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Апсорп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5517720" y="440676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Елимина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04000" y="343368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2676600" y="344808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419640" y="1773360"/>
            <a:ext cx="248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98" name="Straight Arrow Connector 14"/>
          <p:cNvCxnSpPr/>
          <p:nvPr/>
        </p:nvCxnSpPr>
        <p:spPr>
          <a:xfrm>
            <a:off x="4427280" y="3068640"/>
            <a:ext cx="1080" cy="5832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99" name="Straight Arrow Connector 16"/>
          <p:cNvCxnSpPr/>
          <p:nvPr/>
        </p:nvCxnSpPr>
        <p:spPr>
          <a:xfrm flipV="1">
            <a:off x="4787640" y="3068280"/>
            <a:ext cx="1080" cy="5832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00" name="TextBox 17"/>
          <p:cNvSpPr/>
          <p:nvPr/>
        </p:nvSpPr>
        <p:spPr>
          <a:xfrm>
            <a:off x="4373640" y="20653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4724280" y="303372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3833640" y="300348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Тропросторни модел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103640" y="3002040"/>
            <a:ext cx="111600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1776600" y="5300640"/>
            <a:ext cx="533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Cp</a:t>
            </a:r>
            <a:r>
              <a:rPr b="0" lang="sr-Latn-CS" sz="2800" spc="-1" strike="noStrike" baseline="-25000">
                <a:solidFill>
                  <a:srgbClr val="006699"/>
                </a:solidFill>
                <a:latin typeface="Calibri"/>
              </a:rPr>
              <a:t>(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= A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+ B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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r>
              <a:rPr b="0" lang="sr-RS" sz="2800" spc="-1" strike="noStrike" baseline="30000">
                <a:solidFill>
                  <a:srgbClr val="00669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6699"/>
                </a:solidFill>
                <a:latin typeface="Calibri"/>
              </a:rPr>
              <a:t>+ </a:t>
            </a:r>
            <a:r>
              <a:rPr b="0" lang="sr-Latn-RS" sz="2800" spc="-1" strike="noStrike">
                <a:solidFill>
                  <a:srgbClr val="006699"/>
                </a:solidFill>
                <a:latin typeface="Calibri"/>
              </a:rPr>
              <a:t>C * </a:t>
            </a:r>
            <a:r>
              <a:rPr b="0" lang="sr-Latn-CS" sz="2800" spc="-1" strike="noStrike">
                <a:solidFill>
                  <a:srgbClr val="006699"/>
                </a:solidFill>
                <a:latin typeface="Tahoma"/>
              </a:rPr>
              <a:t>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Tahoma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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Tahoma"/>
              </a:rPr>
              <a:t>*t)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6588000" y="3002040"/>
            <a:ext cx="111600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1619280" y="3002040"/>
            <a:ext cx="111600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208" name="Straight Arrow Connector 5"/>
          <p:cNvCxnSpPr/>
          <p:nvPr/>
        </p:nvCxnSpPr>
        <p:spPr>
          <a:xfrm>
            <a:off x="2734920" y="342864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09" name="Straight Arrow Connector 22"/>
          <p:cNvCxnSpPr/>
          <p:nvPr/>
        </p:nvCxnSpPr>
        <p:spPr>
          <a:xfrm flipV="1">
            <a:off x="5219280" y="342828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10" name="Straight Arrow Connector 24"/>
          <p:cNvCxnSpPr/>
          <p:nvPr/>
        </p:nvCxnSpPr>
        <p:spPr>
          <a:xfrm flipH="1">
            <a:off x="5218920" y="364464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11" name="Straight Arrow Connector 27"/>
          <p:cNvCxnSpPr/>
          <p:nvPr/>
        </p:nvCxnSpPr>
        <p:spPr>
          <a:xfrm flipH="1">
            <a:off x="2734560" y="364464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12" name="TextBox 28"/>
          <p:cNvSpPr/>
          <p:nvPr/>
        </p:nvSpPr>
        <p:spPr>
          <a:xfrm>
            <a:off x="4040280" y="2046240"/>
            <a:ext cx="136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Централн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ељак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6251760" y="2050920"/>
            <a:ext cx="178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убоки ткивн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ељак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670760" y="205416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кивн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ељак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215" name="Straight Arrow Connector 32"/>
          <p:cNvCxnSpPr/>
          <p:nvPr/>
        </p:nvCxnSpPr>
        <p:spPr>
          <a:xfrm>
            <a:off x="4571640" y="4005000"/>
            <a:ext cx="1080" cy="8643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16" name="Straight Arrow Connector 36"/>
          <p:cNvCxnSpPr/>
          <p:nvPr/>
        </p:nvCxnSpPr>
        <p:spPr>
          <a:xfrm flipV="1">
            <a:off x="4858920" y="4004640"/>
            <a:ext cx="1080" cy="8643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17" name="TextBox 37"/>
          <p:cNvSpPr/>
          <p:nvPr/>
        </p:nvSpPr>
        <p:spPr>
          <a:xfrm>
            <a:off x="4392720" y="3213000"/>
            <a:ext cx="57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8" name="TextBox 38"/>
          <p:cNvSpPr/>
          <p:nvPr/>
        </p:nvSpPr>
        <p:spPr>
          <a:xfrm>
            <a:off x="6875640" y="3213000"/>
            <a:ext cx="72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d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9" name="TextBox 39"/>
          <p:cNvSpPr/>
          <p:nvPr/>
        </p:nvSpPr>
        <p:spPr>
          <a:xfrm>
            <a:off x="1908000" y="321300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0" name="TextBox 40"/>
          <p:cNvSpPr/>
          <p:nvPr/>
        </p:nvSpPr>
        <p:spPr>
          <a:xfrm>
            <a:off x="4937040" y="4287960"/>
            <a:ext cx="44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3d62"/>
                </a:solidFill>
                <a:latin typeface="Tahoma"/>
              </a:rPr>
              <a:t>k</a:t>
            </a:r>
            <a:r>
              <a:rPr b="0" lang="sr-Latn-RS" sz="2400" spc="-1" strike="noStrike" baseline="-25000">
                <a:solidFill>
                  <a:srgbClr val="003d62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1" name="TextBox 41"/>
          <p:cNvSpPr/>
          <p:nvPr/>
        </p:nvSpPr>
        <p:spPr>
          <a:xfrm>
            <a:off x="4047120" y="4280040"/>
            <a:ext cx="44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3d62"/>
                </a:solidFill>
                <a:latin typeface="Tahoma"/>
              </a:rPr>
              <a:t>k</a:t>
            </a:r>
            <a:r>
              <a:rPr b="0" lang="sr-Latn-RS" sz="2400" spc="-1" strike="noStrike" baseline="-25000">
                <a:solidFill>
                  <a:srgbClr val="003d62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Редистрибуциј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едставља процес враћања лека из ткива у које се већ дистрибуирао назад у крвоток, а затим прерасподелу у друга ткива зависно од врсте ткива и градијента концентрације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словљена брзином протока крви кроз ткива и способношћу лека да пролази мембран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арактерише фармакокинетику изразито липосолубилних лекова који се примењују брзо интравенски или инхалацијом и слабо везују за протеине плазм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брзо постижу дејство у централном нервном или кардиоваскуларном систему као добро прокрвљеним ткиви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За последицу има брз прекид дејства лека након прекида примене, јер се лек враћа назад у крв, а затим прелази у мишићно и масно ткиво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Запремина одељака и лекови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4360" y="1628640"/>
          <a:ext cx="8064360" cy="502920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умени телесних одељак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и леков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Укупна вода 42 Л (0.6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али хидрофилни молекули (етанол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Екстрацелуларна вода 14 Л (0.2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елики хидрофилни молекули (гентамицин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Крв 5.6 Л (0.08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Плазма 3.2 Л (0.04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елики молекули везани за протеине плазме (хепарин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аст 14-24.5 Л (0.2-0.35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елики липосолубилни молекули (ДДТ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Кост 4.9 Л (0.07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Поједини јони (олово, флуорид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Примери редистрибуциј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који се брзо дистрибуирај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иазепам у епилептичном статус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ејство брзо настаје и слаби после 2-4 сата због редистрибуције из мозга у периферна ткива, потребна додатна доз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еофилин, лидока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Брза ињекција доводи до токсичних ефеката због брзе дистрибуције у периферна ткива, места нежељених дејстава (мозак, срце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који се споро дистрибуирај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игоксин интравенск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ејство расте са опадањем концентрације у крви због споријег достизања ефективне ткивне концетрације (за око 6 сати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рална ударна доза подељена на појединачне дозе сваких 6 сати ефикаснија од интравенске примен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ктори који утичу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на дистрибуцију лекова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На процес дистрибуције највише утичу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собине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ипофилност, величина 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ле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финитет лека према различитим ткиви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257480" indent="-4572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везивање за протине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Карактеристике средин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средине и прокрвљеност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количина масног тки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исуство физиолошких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исуство транспорт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исуство других лекова (интеракције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1. Особине лека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липофилност, величина и 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pH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 лека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9884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Липофилност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што је лек липофилнији (партициони коефицијент већи), то лакше пролази мембране, али се и лакше нагомилава у масном ткив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Величина молекул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брзина пасивне дифузије обрнуто је пропорционална квадратном корену величине молекула - 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мањи молекули лакше пролазе мембран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лека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бог липофилне структуре мембрана, пролаз је могућ само ненаелектрисаним молекули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због афинитета за албумин, слабе киселине теже да остану у плазми, због чега се слабије дистрибуирај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због афинитета за гликопротеине и липопротеине, слабе базе лакше напуштају плазму и боље се дистрибуирај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1. Особине лека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афинитет за ткива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и протеине плазме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8204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Афинитет лека према различитим ткивим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лекови се могу везивати и за ткива на која не желимо да делуј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3" marL="1200240" indent="-34308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нпр. дигоксин за скелетне мишиће 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лекови се везују за протеине у плазм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у оба случаја им је кретање ка рецепторима отежано или онемогућено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отеини плазме везују леков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лбумин најчешће везује киселе, а </a:t>
            </a:r>
            <a:r>
              <a:rPr b="0" lang="el-GR" sz="2200" spc="-1" strike="noStrike">
                <a:solidFill>
                  <a:srgbClr val="003d62"/>
                </a:solidFill>
                <a:latin typeface="Calibri"/>
              </a:rPr>
              <a:t>α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1-гликопротеин и липопротеини најчешће базне лекове, глобулин (тироксин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и високим концентрацијама степен везивања лека лимитиран је бројем доступних места за везивање на протеинима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1. 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Особине лека 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афинитет за ткива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и протеине плазме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Везивање за протеине следи Закон о дејству мас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сказује се у %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Лекови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е везују неспецифичн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са великим афинитетом за протеине плазме истовремено примењени један другог потискују са места везивања, повећавајући један другом слободну фракцију и ефекте (жељене и нежељене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Лекови имају различит афинитет за протеине плазм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тепен дистрибуције у ткива зависи од везивања лека за протеине плазме - само невезана фракција подлеже дифузији у екстраваскуларни простор и даље у тки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1. 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Особине лека 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афинитет за ткива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и протеине плазме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ваки молекул албумина има најмање  6 домена за који се могу везати лекови и ендогени молекул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ва домена снажно и специфично везују масне киселине дугих ланац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Један домен специфично везује билируб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ва домена (</a:t>
            </a:r>
            <a:r>
              <a:rPr b="0" lang="sr-Latn-RS" sz="1900" spc="-1" strike="noStrike">
                <a:solidFill>
                  <a:srgbClr val="003d62"/>
                </a:solidFill>
                <a:latin typeface="Calibri"/>
              </a:rPr>
              <a:t>I, II)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езују лекове, примарно карактеристика киселин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3d62"/>
                </a:solidFill>
                <a:latin typeface="Calibri"/>
              </a:rPr>
              <a:t>Домен 1 – варфарин, фенилбутазон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3d62"/>
                </a:solidFill>
                <a:latin typeface="Calibri"/>
              </a:rPr>
              <a:t>Домен 2 – диазепам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лфа-1 кисели гликопротеин је протеин акутне фазе запаљења, има један домен који везује лекове карактеристика баз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ипопротеини (и друге ћелије са мембраном као што су нпр. еритроцити) могу везати лекове, више процесом растварања у масној мембрани него правом међусобном молекулском реакцијом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4:03:03Z</dcterms:created>
  <dc:creator>Judy</dc:creator>
  <dc:description/>
  <dc:language>en-US</dc:language>
  <cp:lastModifiedBy>User</cp:lastModifiedBy>
  <dcterms:modified xsi:type="dcterms:W3CDTF">2020-09-26T17:30:00Z</dcterms:modified>
  <cp:revision>296</cp:revision>
  <dc:subject/>
  <dc:title>Fluid &amp; Electrolytes Management</dc:title>
</cp:coreProperties>
</file>